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A75-8AD3-428B-A11D-E07626FF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AFA-F34A-453C-B3C1-09C4E23D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DA7-3896-43E7-9299-A0803707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57F-BCBE-4572-A74F-A86FEFFF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592-F9B1-4290-A026-F1BE7C42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599-7E6F-484A-A16C-171BE269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36E-2EA0-4FE4-8CF3-CFC7562E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D49-171B-4886-B8EE-91FED6EB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EBC-50BB-4136-83BC-63D89C3F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CC9-F7E1-405F-8053-4AC6B9B3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C70-F2DC-4CE8-944D-2AC8706E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2F5-6C92-4B73-8177-31A720E4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D1F9-86E0-466D-8C3B-7B939F815DA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eo.lao@etc.org.tw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5840" y="566640"/>
            <a:ext cx="6383160" cy="1220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達成我國標準與國際同步，配合經濟部標準檢驗局綠能產品檢測技術及驗證計畫，進行相關標準修訂，並透過中文標準草案公開說明會，提供國內外電磁相容檢測標準更新說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接點 10"/>
          <p:cNvSpPr/>
          <p:nvPr/>
        </p:nvSpPr>
        <p:spPr>
          <a:xfrm>
            <a:off x="27000" y="689760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9000" y="7478640"/>
          <a:ext cx="6480000" cy="1730520"/>
        </p:xfrm>
        <a:graphic>
          <a:graphicData uri="http://schemas.openxmlformats.org/drawingml/2006/table">
            <a:tbl>
              <a:tblPr/>
              <a:tblGrid>
                <a:gridCol w="1311120"/>
                <a:gridCol w="849240"/>
                <a:gridCol w="863640"/>
                <a:gridCol w="689040"/>
                <a:gridCol w="750960"/>
                <a:gridCol w="223920"/>
                <a:gridCol w="1792080"/>
              </a:tblGrid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名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統一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地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參加人員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職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分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行動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字方塊 12"/>
          <p:cNvSpPr/>
          <p:nvPr/>
        </p:nvSpPr>
        <p:spPr>
          <a:xfrm>
            <a:off x="1639800" y="703584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CNS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報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0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N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4840" y="4521240"/>
          <a:ext cx="6464160" cy="1249200"/>
        </p:xfrm>
        <a:graphic>
          <a:graphicData uri="http://schemas.openxmlformats.org/drawingml/2006/table">
            <a:tbl>
              <a:tblPr/>
              <a:tblGrid>
                <a:gridCol w="1423800"/>
                <a:gridCol w="3159360"/>
                <a:gridCol w="1881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講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:45-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0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 13306-1-1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CISPR 16-1-1):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30-11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14676-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IEC61000-4-3):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47" name="文字方塊 9"/>
          <p:cNvSpPr/>
          <p:nvPr/>
        </p:nvSpPr>
        <p:spPr>
          <a:xfrm>
            <a:off x="285840" y="1900080"/>
            <a:ext cx="63370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主辦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經濟部標準檢驗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受託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財團法人台灣商品檢測驗證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1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2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星期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10:00~11:0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地點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網路會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方式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填妥報名資料回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-mail: </a:t>
            </a:r>
            <a:r>
              <a:rPr b="0" lang="en-US" sz="1600" spc="-1" strike="noStrike" u="sng">
                <a:solidFill>
                  <a:srgbClr val="4f81bd"/>
                </a:solidFill>
                <a:uFillTx/>
                <a:latin typeface="Arial"/>
                <a:ea typeface="標楷體"/>
              </a:rPr>
              <a:t>hank1108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標楷體"/>
                <a:hlinkClick r:id="rId1"/>
              </a:rPr>
              <a:t>@etc.org.tw</a:t>
            </a:r>
            <a:r>
              <a:rPr b="0" lang="zh-TW" sz="1600" spc="-1" strike="noStrike">
                <a:solidFill>
                  <a:srgbClr val="4f81bd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完成報名以電子郵件方式提供線上會議連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費用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免費參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聯絡窗口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02-26023052#28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張先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議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1"/>
          <p:cNvSpPr/>
          <p:nvPr/>
        </p:nvSpPr>
        <p:spPr>
          <a:xfrm>
            <a:off x="117360" y="9283680"/>
            <a:ext cx="662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單位報名名額為兩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參與活動報名者所提供之個人資料，依相關個資法令規定來使用、保管、並維護其隱私權，不會交予及無正當理由透露給第三者，並於事後以專案銷毀刪除個人資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16:20Z</dcterms:created>
  <dc:creator>vivi</dc:creator>
  <dc:description/>
  <dc:language>en-US</dc:language>
  <cp:lastModifiedBy>green.tsao</cp:lastModifiedBy>
  <cp:lastPrinted>2018-03-19T06:04:45Z</cp:lastPrinted>
  <dcterms:modified xsi:type="dcterms:W3CDTF">2022-06-23T00:41:34Z</dcterms:modified>
  <cp:revision>180</cp:revision>
  <dc:subject/>
  <dc:title>投影片 1</dc:title>
</cp:coreProperties>
</file>